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44FD-B5BA-423C-9D02-8E151498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2DA1-F7E8-4194-823B-D48CD26C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9FB6-A8D0-4517-85E6-BF11E92A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1437-9741-42B1-91E3-3B88718C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120F-7585-4F6C-8518-E76D2C5E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0E6B-879F-4AFB-B945-0A134302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6BE1-6AB7-4F7B-A4DA-21001756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688F-C80C-461C-B8CD-7A2A8BF1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805F-03EC-4AAB-B9E4-BD94635C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502F-C17E-44C3-8259-895E3E29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5532-27ED-40FA-AEC1-411233C4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E792-837E-4FC0-8712-133554FC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690C-AA01-4B82-BCDD-494A61B4E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G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8: Physics &amp;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GUNA meeting @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1/7/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posal for FP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.C. sensitivity tests and evalutation of physics potential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ton 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N physics: DSN &amp; (burst for oscil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tmospheric, solar, and terrestrial neutr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ark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eutrino beams and re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posal for FP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C simulation for eff./bkg parametr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“à la GLoBES” for non-oscillation physics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ments on GLoBES by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. Hubert/M. Lindner/Th. Schwet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ctor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ready done (see e.g hep-ph/0601266 for 2-Chooz and 3-Choo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s version 2.3.8 (official in next 2.4 release) for “user-defined-systematic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s to cluster the reactors to deal with small number of “experimen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tmospher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done as interface with other codes. Two approaches so far have already used in the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bine at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evel, that is what we do when we use Michele's Maltoni calculation (see eg hep-ph/0603172 for MEMPH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bine at event rate level, that is what Joachim Kopp did in his master thesis. He has written his own Atm code called INS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ments on GLoBES by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. Hubert/M. Lindner/Th. Schwet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14716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hele's code: use larg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GB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able computed for a specific detector configu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Joachim's code: allows detector change. But, this approach needs much more documentation and support. In that case there probably would be a free-standing version of INSANE and interface code inside GLoB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use them semi-public, i.e. for LAGUNA only, instead of having full-blown public code releases seem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first approximation may be done as for Atmospheric, but not yet example in lit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ments on GLoBES by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. Hubert/M. Lindner/Th. Schwet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14716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nova: DSN + bu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ES seems not adapted for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SN: requires code for modelling stellar evolution or SN rate versus red shift. Form there on, it is again an issue of background which is reactor and atmospheric neutrinos mai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rst: requires to propagate the neutrinos through the exploding star. The event rates are                                          background is usually of no conc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5120" y="4192560"/>
            <a:ext cx="4213440" cy="26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4" name=""/>
          <p:cNvGrpSpPr/>
          <p:nvPr/>
        </p:nvGrpSpPr>
        <p:grpSpPr>
          <a:xfrm>
            <a:off x="4481640" y="4105440"/>
            <a:ext cx="4659840" cy="2707920"/>
            <a:chOff x="4481640" y="4105440"/>
            <a:chExt cx="4659840" cy="2707920"/>
          </a:xfrm>
        </p:grpSpPr>
        <p:grpSp>
          <p:nvGrpSpPr>
            <p:cNvPr id="55" name=""/>
            <p:cNvGrpSpPr/>
            <p:nvPr/>
          </p:nvGrpSpPr>
          <p:grpSpPr>
            <a:xfrm>
              <a:off x="4481640" y="4239000"/>
              <a:ext cx="4560840" cy="2574360"/>
              <a:chOff x="4481640" y="4239000"/>
              <a:chExt cx="4560840" cy="2574360"/>
            </a:xfrm>
          </p:grpSpPr>
          <p:pic>
            <p:nvPicPr>
              <p:cNvPr id="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81640" y="4239000"/>
                <a:ext cx="4560840" cy="2574360"/>
              </a:xfrm>
              <a:prstGeom prst="rect">
                <a:avLst/>
              </a:prstGeom>
              <a:ln w="19080">
                <a:solidFill>
                  <a:srgbClr val="ff9900"/>
                </a:solidFill>
                <a:miter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6496200" y="5072760"/>
                <a:ext cx="2450880" cy="1261080"/>
              </a:xfrm>
              <a:custGeom>
                <a:avLst/>
                <a:gdLst/>
                <a:ahLst/>
                <a:rect l="l" t="t" r="r" b="b"/>
                <a:pathLst>
                  <a:path w="1544" h="691">
                    <a:moveTo>
                      <a:pt x="0" y="691"/>
                    </a:moveTo>
                    <a:cubicBezTo>
                      <a:pt x="4" y="657"/>
                      <a:pt x="9" y="624"/>
                      <a:pt x="18" y="563"/>
                    </a:cubicBezTo>
                    <a:cubicBezTo>
                      <a:pt x="27" y="502"/>
                      <a:pt x="45" y="387"/>
                      <a:pt x="56" y="325"/>
                    </a:cubicBezTo>
                    <a:cubicBezTo>
                      <a:pt x="67" y="263"/>
                      <a:pt x="70" y="233"/>
                      <a:pt x="82" y="191"/>
                    </a:cubicBezTo>
                    <a:cubicBezTo>
                      <a:pt x="94" y="149"/>
                      <a:pt x="101" y="98"/>
                      <a:pt x="126" y="71"/>
                    </a:cubicBezTo>
                    <a:cubicBezTo>
                      <a:pt x="151" y="44"/>
                      <a:pt x="191" y="38"/>
                      <a:pt x="230" y="27"/>
                    </a:cubicBezTo>
                    <a:cubicBezTo>
                      <a:pt x="269" y="16"/>
                      <a:pt x="310" y="6"/>
                      <a:pt x="360" y="3"/>
                    </a:cubicBezTo>
                    <a:cubicBezTo>
                      <a:pt x="410" y="0"/>
                      <a:pt x="477" y="1"/>
                      <a:pt x="528" y="9"/>
                    </a:cubicBezTo>
                    <a:cubicBezTo>
                      <a:pt x="579" y="17"/>
                      <a:pt x="605" y="24"/>
                      <a:pt x="664" y="49"/>
                    </a:cubicBezTo>
                    <a:cubicBezTo>
                      <a:pt x="723" y="74"/>
                      <a:pt x="822" y="130"/>
                      <a:pt x="882" y="159"/>
                    </a:cubicBezTo>
                    <a:cubicBezTo>
                      <a:pt x="942" y="188"/>
                      <a:pt x="962" y="203"/>
                      <a:pt x="1022" y="225"/>
                    </a:cubicBezTo>
                    <a:cubicBezTo>
                      <a:pt x="1082" y="247"/>
                      <a:pt x="1153" y="271"/>
                      <a:pt x="1240" y="293"/>
                    </a:cubicBezTo>
                    <a:cubicBezTo>
                      <a:pt x="1327" y="315"/>
                      <a:pt x="1435" y="336"/>
                      <a:pt x="1544" y="357"/>
                    </a:cubicBezTo>
                  </a:path>
                </a:pathLst>
              </a:custGeom>
              <a:noFill/>
              <a:ln w="190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498280" y="4983120"/>
                <a:ext cx="438120" cy="51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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787000" y="5810040"/>
                <a:ext cx="590760" cy="51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8000"/>
                    </a:solidFill>
                    <a:latin typeface="Symbol"/>
                    <a:ea typeface="Symbol"/>
                  </a:rPr>
                  <a:t></a:t>
                </a:r>
                <a:r>
                  <a:rPr b="1" lang="fr-FR" sz="2400" spc="-1" strike="noStrike" baseline="-25000">
                    <a:solidFill>
                      <a:srgbClr val="008000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145280" y="5616720"/>
                <a:ext cx="1224000" cy="51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993366"/>
                    </a:solidFill>
                    <a:latin typeface="Symbol"/>
                    <a:ea typeface="Symbol"/>
                  </a:rPr>
                  <a:t></a:t>
                </a:r>
                <a:r>
                  <a:rPr b="1" lang="fr-FR" sz="2400" spc="-1" strike="noStrike" baseline="-25000">
                    <a:solidFill>
                      <a:srgbClr val="993366"/>
                    </a:solidFill>
                    <a:latin typeface="Symbol"/>
                    <a:ea typeface="Symbol"/>
                  </a:rPr>
                  <a:t></a:t>
                </a:r>
                <a:r>
                  <a:rPr b="1" lang="fr-FR" sz="2400" spc="-1" strike="noStrike">
                    <a:solidFill>
                      <a:srgbClr val="993366"/>
                    </a:solidFill>
                    <a:latin typeface="Symbol"/>
                    <a:ea typeface="Symbol"/>
                  </a:rPr>
                  <a:t></a:t>
                </a:r>
                <a:r>
                  <a:rPr b="1" lang="fr-FR" sz="2400" spc="-1" strike="noStrike" baseline="-25000">
                    <a:solidFill>
                      <a:srgbClr val="993366"/>
                    </a:solidFill>
                    <a:latin typeface="Symbol"/>
                    <a:ea typeface="Symbol"/>
                  </a:rPr>
                  <a:t>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889520" y="4435920"/>
                <a:ext cx="4073400" cy="1901160"/>
              </a:xfrm>
              <a:custGeom>
                <a:avLst/>
                <a:gdLst/>
                <a:ahLst/>
                <a:rect l="l" t="t" r="r" b="b"/>
                <a:pathLst>
                  <a:path w="2566" h="1042">
                    <a:moveTo>
                      <a:pt x="0" y="1042"/>
                    </a:moveTo>
                    <a:cubicBezTo>
                      <a:pt x="97" y="991"/>
                      <a:pt x="194" y="940"/>
                      <a:pt x="280" y="888"/>
                    </a:cubicBezTo>
                    <a:cubicBezTo>
                      <a:pt x="366" y="836"/>
                      <a:pt x="438" y="792"/>
                      <a:pt x="516" y="730"/>
                    </a:cubicBezTo>
                    <a:cubicBezTo>
                      <a:pt x="594" y="668"/>
                      <a:pt x="685" y="588"/>
                      <a:pt x="748" y="514"/>
                    </a:cubicBezTo>
                    <a:cubicBezTo>
                      <a:pt x="811" y="440"/>
                      <a:pt x="863" y="339"/>
                      <a:pt x="894" y="288"/>
                    </a:cubicBezTo>
                    <a:cubicBezTo>
                      <a:pt x="925" y="237"/>
                      <a:pt x="925" y="223"/>
                      <a:pt x="934" y="208"/>
                    </a:cubicBezTo>
                    <a:cubicBezTo>
                      <a:pt x="943" y="193"/>
                      <a:pt x="943" y="193"/>
                      <a:pt x="946" y="196"/>
                    </a:cubicBezTo>
                    <a:cubicBezTo>
                      <a:pt x="949" y="199"/>
                      <a:pt x="949" y="225"/>
                      <a:pt x="954" y="228"/>
                    </a:cubicBezTo>
                    <a:cubicBezTo>
                      <a:pt x="959" y="231"/>
                      <a:pt x="967" y="233"/>
                      <a:pt x="974" y="214"/>
                    </a:cubicBezTo>
                    <a:cubicBezTo>
                      <a:pt x="981" y="195"/>
                      <a:pt x="992" y="140"/>
                      <a:pt x="998" y="112"/>
                    </a:cubicBezTo>
                    <a:cubicBezTo>
                      <a:pt x="1004" y="84"/>
                      <a:pt x="1009" y="58"/>
                      <a:pt x="1012" y="44"/>
                    </a:cubicBezTo>
                    <a:cubicBezTo>
                      <a:pt x="1015" y="30"/>
                      <a:pt x="1012" y="28"/>
                      <a:pt x="1016" y="26"/>
                    </a:cubicBezTo>
                    <a:cubicBezTo>
                      <a:pt x="1020" y="24"/>
                      <a:pt x="1017" y="0"/>
                      <a:pt x="1038" y="34"/>
                    </a:cubicBezTo>
                    <a:cubicBezTo>
                      <a:pt x="1059" y="68"/>
                      <a:pt x="1104" y="186"/>
                      <a:pt x="1144" y="232"/>
                    </a:cubicBezTo>
                    <a:cubicBezTo>
                      <a:pt x="1184" y="278"/>
                      <a:pt x="1238" y="296"/>
                      <a:pt x="1280" y="312"/>
                    </a:cubicBezTo>
                    <a:cubicBezTo>
                      <a:pt x="1322" y="328"/>
                      <a:pt x="1357" y="322"/>
                      <a:pt x="1396" y="326"/>
                    </a:cubicBezTo>
                    <a:cubicBezTo>
                      <a:pt x="1435" y="330"/>
                      <a:pt x="1477" y="329"/>
                      <a:pt x="1514" y="338"/>
                    </a:cubicBezTo>
                    <a:cubicBezTo>
                      <a:pt x="1551" y="347"/>
                      <a:pt x="1572" y="354"/>
                      <a:pt x="1618" y="378"/>
                    </a:cubicBezTo>
                    <a:cubicBezTo>
                      <a:pt x="1664" y="402"/>
                      <a:pt x="1735" y="449"/>
                      <a:pt x="1792" y="480"/>
                    </a:cubicBezTo>
                    <a:cubicBezTo>
                      <a:pt x="1849" y="511"/>
                      <a:pt x="1905" y="541"/>
                      <a:pt x="1958" y="566"/>
                    </a:cubicBezTo>
                    <a:cubicBezTo>
                      <a:pt x="2011" y="591"/>
                      <a:pt x="2039" y="607"/>
                      <a:pt x="2110" y="630"/>
                    </a:cubicBezTo>
                    <a:cubicBezTo>
                      <a:pt x="2181" y="653"/>
                      <a:pt x="2308" y="684"/>
                      <a:pt x="2384" y="702"/>
                    </a:cubicBezTo>
                    <a:cubicBezTo>
                      <a:pt x="2460" y="720"/>
                      <a:pt x="2536" y="732"/>
                      <a:pt x="2566" y="73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470640" y="5069160"/>
                <a:ext cx="2486160" cy="1267560"/>
              </a:xfrm>
              <a:custGeom>
                <a:avLst/>
                <a:gdLst/>
                <a:ahLst/>
                <a:rect l="l" t="t" r="r" b="b"/>
                <a:pathLst>
                  <a:path w="1566" h="695">
                    <a:moveTo>
                      <a:pt x="0" y="695"/>
                    </a:moveTo>
                    <a:cubicBezTo>
                      <a:pt x="9" y="489"/>
                      <a:pt x="19" y="283"/>
                      <a:pt x="26" y="175"/>
                    </a:cubicBezTo>
                    <a:cubicBezTo>
                      <a:pt x="33" y="67"/>
                      <a:pt x="35" y="76"/>
                      <a:pt x="42" y="49"/>
                    </a:cubicBezTo>
                    <a:cubicBezTo>
                      <a:pt x="49" y="22"/>
                      <a:pt x="52" y="23"/>
                      <a:pt x="66" y="15"/>
                    </a:cubicBezTo>
                    <a:cubicBezTo>
                      <a:pt x="80" y="7"/>
                      <a:pt x="80" y="5"/>
                      <a:pt x="128" y="3"/>
                    </a:cubicBezTo>
                    <a:cubicBezTo>
                      <a:pt x="176" y="1"/>
                      <a:pt x="292" y="0"/>
                      <a:pt x="356" y="3"/>
                    </a:cubicBezTo>
                    <a:cubicBezTo>
                      <a:pt x="420" y="6"/>
                      <a:pt x="461" y="9"/>
                      <a:pt x="512" y="23"/>
                    </a:cubicBezTo>
                    <a:cubicBezTo>
                      <a:pt x="563" y="37"/>
                      <a:pt x="616" y="61"/>
                      <a:pt x="666" y="85"/>
                    </a:cubicBezTo>
                    <a:cubicBezTo>
                      <a:pt x="716" y="109"/>
                      <a:pt x="763" y="143"/>
                      <a:pt x="814" y="169"/>
                    </a:cubicBezTo>
                    <a:cubicBezTo>
                      <a:pt x="865" y="195"/>
                      <a:pt x="914" y="219"/>
                      <a:pt x="974" y="243"/>
                    </a:cubicBezTo>
                    <a:cubicBezTo>
                      <a:pt x="1034" y="267"/>
                      <a:pt x="1098" y="294"/>
                      <a:pt x="1172" y="315"/>
                    </a:cubicBezTo>
                    <a:cubicBezTo>
                      <a:pt x="1246" y="336"/>
                      <a:pt x="1354" y="358"/>
                      <a:pt x="1420" y="371"/>
                    </a:cubicBezTo>
                    <a:cubicBezTo>
                      <a:pt x="1486" y="384"/>
                      <a:pt x="1526" y="388"/>
                      <a:pt x="1566" y="393"/>
                    </a:cubicBezTo>
                  </a:path>
                </a:pathLst>
              </a:custGeom>
              <a:noFill/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6281640" y="5727960"/>
                <a:ext cx="144720" cy="2476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642000" y="5561640"/>
                <a:ext cx="289080" cy="33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65" name=""/>
            <p:cNvGraphicFramePr/>
            <p:nvPr/>
          </p:nvGraphicFramePr>
          <p:xfrm>
            <a:off x="7648560" y="4105440"/>
            <a:ext cx="1476360" cy="1073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48560" y="4105440"/>
                      <a:ext cx="1476360" cy="1073160"/>
                    </a:xfrm>
                    <a:prstGeom prst="rect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7363440" y="6391440"/>
              <a:ext cx="433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581320" y="6391440"/>
              <a:ext cx="560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23440" y="6391440"/>
              <a:ext cx="624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.1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4140360" y="3573360"/>
            <a:ext cx="2674800" cy="459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435640" y="3573360"/>
            <a:ext cx="136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ments on GLoBES by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. Hubert/M. Lindner/Th. Schwet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47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y have partially been treated in hep-ph/060126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a proper treatment requires to integrate the source distribution (for which you have various geophysical models, Fiorini has worked a lot on tha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S team would require a dedicated effort and need outside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ES cannot be used for th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seems to be much more a detector issue than an analysis probl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sentially, for each decay mode there is only one physical parameter: the lifet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tector simulation computes how much background one expect for each decay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08:35:59Z</dcterms:created>
  <dc:creator>J.E Campagne</dc:creator>
  <dc:description/>
  <dc:language>en-US</dc:language>
  <cp:lastModifiedBy>J.E Campagne</cp:lastModifiedBy>
  <dcterms:modified xsi:type="dcterms:W3CDTF">2006-07-19T07:52:21Z</dcterms:modified>
  <cp:revision>3</cp:revision>
  <dc:subject/>
  <dc:title>WG8: Physics &amp; Simulations</dc:title>
</cp:coreProperties>
</file>